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E341-DB61-4346-AFBD-55F25522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0E86-9611-4F01-B879-0121C4D7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4371-962F-4B95-8D55-CCAA765F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38CB-AFBE-422D-8DE1-45825074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5DD7-A5E6-42E9-AD43-013D1F3D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DA4F-FC5D-4646-A237-730D9919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B85C-C927-4D39-9F9D-926DE314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1D5E-F875-4570-B2F5-A2A6478F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E4CF-5EA6-46FB-BD28-2B0AAA10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0C5A-90A8-412D-98A1-3431EFB8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BED9-FE44-46BA-AE90-D0B94974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077B-0964-43D7-9419-ACA44B04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D5AF-3842-4AA7-B37B-7A6BA2B58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685800"/>
            <a:ext cx="2736720" cy="2590920"/>
            <a:chOff x="304920" y="685800"/>
            <a:chExt cx="2736720" cy="2590920"/>
          </a:xfrm>
        </p:grpSpPr>
        <p:sp>
          <p:nvSpPr>
            <p:cNvPr id="42" name=""/>
            <p:cNvSpPr/>
            <p:nvPr/>
          </p:nvSpPr>
          <p:spPr>
            <a:xfrm>
              <a:off x="304920" y="685800"/>
              <a:ext cx="273672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rketing-Mi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4920" y="901800"/>
              <a:ext cx="136836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04920" y="111744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Charg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673280" y="901800"/>
              <a:ext cx="136836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4Me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3280" y="111744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154944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73280" y="154944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198108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73280" y="198108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4130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73280" y="24130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901800"/>
              <a:ext cx="1368360" cy="1942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673280" y="901800"/>
              <a:ext cx="1368360" cy="1942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2844720"/>
              <a:ext cx="27367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Verkau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685800"/>
              <a:ext cx="2736720" cy="2590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995640" y="907920"/>
            <a:ext cx="1657440" cy="1513080"/>
            <a:chOff x="3995640" y="907920"/>
            <a:chExt cx="1657440" cy="1513080"/>
          </a:xfrm>
        </p:grpSpPr>
        <p:sp>
          <p:nvSpPr>
            <p:cNvPr id="58" name=""/>
            <p:cNvSpPr/>
            <p:nvPr/>
          </p:nvSpPr>
          <p:spPr>
            <a:xfrm>
              <a:off x="3995640" y="907920"/>
              <a:ext cx="165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0" rIns="432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. Geplanter Absat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95640" y="1123920"/>
              <a:ext cx="1656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95640" y="1555920"/>
              <a:ext cx="1656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Großabnehmer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95640" y="907920"/>
              <a:ext cx="1657440" cy="1513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5651640" y="1052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80000" y="8366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56360" y="692280"/>
            <a:ext cx="2736720" cy="1296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058920" y="1052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19640" y="8366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788000" y="3716280"/>
            <a:ext cx="4033800" cy="1800360"/>
            <a:chOff x="4788000" y="3716280"/>
            <a:chExt cx="4033800" cy="1800360"/>
          </a:xfrm>
        </p:grpSpPr>
        <p:sp>
          <p:nvSpPr>
            <p:cNvPr id="68" name=""/>
            <p:cNvSpPr/>
            <p:nvPr/>
          </p:nvSpPr>
          <p:spPr>
            <a:xfrm>
              <a:off x="4788000" y="3716280"/>
              <a:ext cx="4033800" cy="1800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r Absatz:  ____ Ch. DRESS        ____ St.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 _______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6084720" y="4221360"/>
              <a:ext cx="2519640" cy="142920"/>
              <a:chOff x="6084720" y="4221360"/>
              <a:chExt cx="2519640" cy="142920"/>
            </a:xfrm>
          </p:grpSpPr>
          <p:sp>
            <p:nvSpPr>
              <p:cNvPr id="70" name=""/>
              <p:cNvSpPr/>
              <p:nvPr/>
            </p:nvSpPr>
            <p:spPr>
              <a:xfrm>
                <a:off x="6084720" y="429444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596360" y="429444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7236000" y="4221360"/>
                <a:ext cx="144360" cy="142920"/>
                <a:chOff x="7236000" y="4221360"/>
                <a:chExt cx="144360" cy="14292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7236000" y="429444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7308720" y="4221360"/>
                  <a:ext cx="0" cy="142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5" name=""/>
          <p:cNvGrpSpPr/>
          <p:nvPr/>
        </p:nvGrpSpPr>
        <p:grpSpPr>
          <a:xfrm>
            <a:off x="324000" y="3573360"/>
            <a:ext cx="2736720" cy="3095640"/>
            <a:chOff x="324000" y="3573360"/>
            <a:chExt cx="2736720" cy="3095640"/>
          </a:xfrm>
        </p:grpSpPr>
        <p:sp>
          <p:nvSpPr>
            <p:cNvPr id="76" name=""/>
            <p:cNvSpPr/>
            <p:nvPr/>
          </p:nvSpPr>
          <p:spPr>
            <a:xfrm>
              <a:off x="324000" y="357336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4000" y="378900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4000" y="400500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92360" y="378900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92360" y="400500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4000" y="443664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92360" y="443664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4000" y="494172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92360" y="494172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4000" y="378900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92360" y="378900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4000" y="544500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4000" y="357336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24000" y="566064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4M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4000" y="609408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4000" y="638136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826920" y="25416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ohne Versandmarkt (P1 und 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64000" y="2492280"/>
            <a:ext cx="1656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2000" y="2565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058920" y="2565360"/>
            <a:ext cx="1368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48000" y="25066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95640" y="1989000"/>
            <a:ext cx="1656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4Me (Stück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560" y="1981080"/>
            <a:ext cx="128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1981080"/>
            <a:ext cx="14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 4 Entscheidungsfindun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EGS</cp:lastModifiedBy>
  <dcterms:modified xsi:type="dcterms:W3CDTF">2008-07-17T12:32:51Z</dcterms:modified>
  <cp:revision>18</cp:revision>
  <dc:subject/>
  <dc:title>Folie 1</dc:title>
</cp:coreProperties>
</file>